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4075-769E-4B75-8AB0-640D4DA0FA8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accompanies the Frack files pdf – a 17-page document of authentic reading about fracking. This lesson will guide learners through the authentic material, which they can then read in detail afterwards. The lesson will take 2 – 3 h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2015-8E44-49F7-A64C-42782122167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ould do a jigsaw-reading and read about one country each, then share the 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CD48-48B8-45B4-8960-39515F226D2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E5CB-1E5B-4692-BA09-D7631FF539D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 1/c   2/e  3/a   4/f   5/b   6/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0018-7115-4188-9340-9BB592CF92B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164A-8072-4C1A-89F8-BCE7BF5241D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/d   2/b   3/e   4/a   5/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8FB9-3D5A-4568-A6D8-3394407CEE3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D605-A83D-4F5E-9344-1E5C394CC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3B27-CAF7-48F7-898F-635B6168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D872-CFD2-4A38-89DD-8FDF53CB9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F489-8D00-4E58-9F49-CDF394D2D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A8A4-750B-493E-A3AB-4763E2E9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2FCB-D0BB-44EF-B6E5-B4099337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21C4-2540-4109-A8BC-ABE47C0C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B231-04D0-499F-B8A3-0407AA2D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AD33-1A1F-43D7-BEDA-86450ED2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E750-9A65-4C21-B9E9-DDC4DF98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CD26-5EA9-4831-B6D5-1B7D80AB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DF7E-C5A6-44E3-B336-18A3C901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C65B-FCB3-43EA-A3D6-49573A7B6D0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Will_fracking_realign_the_world%3F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creativecommons.org/licenses/by/3.0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03640" y="2491920"/>
            <a:ext cx="525456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Frackin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3640" y="4941360"/>
            <a:ext cx="85690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New Internationalist Easier English Ready Lesso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Upper Intermedi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98989"/>
                </a:solidFill>
                <a:latin typeface="Calibri"/>
              </a:rPr>
              <a:t>To use with the 17-page authentic </a:t>
            </a:r>
            <a:r>
              <a:rPr b="1" lang="en-US" sz="2200" spc="-1" strike="noStrike" u="sng">
                <a:solidFill>
                  <a:srgbClr val="898989"/>
                </a:solidFill>
                <a:uFillTx/>
                <a:latin typeface="Calibri"/>
              </a:rPr>
              <a:t>“the fracking files” </a:t>
            </a:r>
            <a:r>
              <a:rPr b="1" lang="en-US" sz="2200" spc="-1" strike="noStrike">
                <a:solidFill>
                  <a:srgbClr val="898989"/>
                </a:solidFill>
                <a:latin typeface="Calibri"/>
              </a:rPr>
              <a:t>pd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98280" y="27000"/>
            <a:ext cx="2762280" cy="390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4140360" y="260280"/>
            <a:ext cx="48956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hat other problems are the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kim through all 17 pages and list all the other problems linked to frac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g. all the dangerous chemicals us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Discuss and comp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3628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What can we do about it? - </a:t>
            </a:r>
            <a:r>
              <a:rPr b="1" lang="en-GB" sz="3200" spc="-1" strike="noStrike">
                <a:solidFill>
                  <a:srgbClr val="7030a0"/>
                </a:solidFill>
                <a:latin typeface="Calibri"/>
              </a:rPr>
              <a:t>what are they doing in these countr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5280" y="191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Argentin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Australi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South Afric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kim through 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pages 15 – 17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o find ou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7030a0"/>
                </a:solidFill>
                <a:latin typeface="Calibri"/>
              </a:rPr>
              <a:t>Homework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94920" y="1267920"/>
            <a:ext cx="8280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ook at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page 17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find out more about th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t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egal challenges 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ampaigns   against frac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for more reading and lin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read the Easier English article about the politics of fracking 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Will_fracking_realign_the_world%3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is lesson will help you understand (through reading and speaking)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what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whe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the     how         of   frack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wher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wh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620280"/>
            <a:ext cx="8362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..and the reasons why fracking is a bad ide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.and what we can do about i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4994280" y="1474920"/>
            <a:ext cx="239868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Frack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” i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3640" y="1412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horizontal high-volume slickwater hydraulic fracturing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 relatively new way of getting oil and gas from undergroun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 solution to all the world’s energy probl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 huge threat to the environment world-w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ll of the abo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When?</a:t>
            </a:r>
            <a:r>
              <a:rPr b="1" lang="en-GB" sz="49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tch these actions with the dates, then look at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pages 2 &amp; 3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check</a:t>
            </a:r>
            <a:br>
              <a:rPr sz="49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920" y="1600200"/>
            <a:ext cx="201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94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99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99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200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20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68000" y="1599840"/>
            <a:ext cx="66963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lickwater fracturing develo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60% of all new oil and gas wells use frac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arly form of vertical fracturing in Tex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racking produces around 14% of all world’s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irst horizontal frac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racking begins in Can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7030a0"/>
                </a:solidFill>
                <a:latin typeface="Calibri"/>
              </a:rPr>
              <a:t>How?</a:t>
            </a:r>
            <a:r>
              <a:rPr b="1" lang="en-GB" sz="49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2900" spc="-1" strike="noStrike">
                <a:solidFill>
                  <a:srgbClr val="002060"/>
                </a:solidFill>
                <a:latin typeface="Calibri"/>
              </a:rPr>
              <a:t>guess which options are correct, then                       </a:t>
            </a:r>
            <a:r>
              <a:rPr b="1" lang="en-GB" sz="2900" spc="-1" strike="noStrike">
                <a:solidFill>
                  <a:srgbClr val="7030a0"/>
                </a:solidFill>
                <a:latin typeface="Calibri"/>
              </a:rPr>
              <a:t>check with diagram on page 4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drill makes a hole of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Calibri"/>
              </a:rPr>
              <a:t>2 / 20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k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2.   The top parts of the drilled hole are covered in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Calibri"/>
              </a:rPr>
              <a:t>plastic and wood / cement and steel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3.  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Calibri"/>
              </a:rPr>
              <a:t>Millions / thousands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of litres of frack fluid (water and chemicals) are forced down the drilled ho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4.   The frack fluid is pumped back up for several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Calibri"/>
              </a:rPr>
              <a:t>days  / hour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to open the hole and allow the gas and oil to flow up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5.  Over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Calibri"/>
              </a:rPr>
              <a:t>60 / 600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secret chemicals are used in the U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Where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24000" y="1341360"/>
            <a:ext cx="8496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ich countries in the world extract gas and oil by frack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heck on the map (page 5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the table (page 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ew South Wales, Australia. (Lock the Gate Alli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under a </a:t>
            </a:r>
            <a:r>
              <a:rPr b="0" lang="en-GB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reative Commons Licenc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4838760" y="3763800"/>
            <a:ext cx="423216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Why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1341000"/>
            <a:ext cx="8291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iscuss - what are the main reasons for frack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creates jo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nergy companies want to make mo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raditional gas and oil extraction is coming to an 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re is a lot of gas and oil underground that we can get to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ecause our lifestyles need so much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Why not? </a:t>
            </a:r>
            <a:r>
              <a:rPr b="1" lang="en-GB" sz="2800" spc="-1" strike="noStrike">
                <a:solidFill>
                  <a:srgbClr val="7030a0"/>
                </a:solidFill>
                <a:latin typeface="Calibri"/>
              </a:rPr>
              <a:t>– match</a:t>
            </a: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7030a0"/>
                </a:solidFill>
                <a:latin typeface="Calibri"/>
              </a:rPr>
              <a:t>these problems with the countries (from boxes on pages 9 – 1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0920" y="1599840"/>
            <a:ext cx="29527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1/ Britai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2/ Canad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3/ Polan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4/ Chin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5/ Bulgari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348000" y="1599840"/>
            <a:ext cx="54007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85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Problems with not enough water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85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Bad effects on the lives of indigenous peopl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85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Using good farming land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85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Caused small earthquak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85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No gas sold yet after big promis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19:22Z</dcterms:created>
  <dc:creator>Linda Ruas</dc:creator>
  <dc:description/>
  <dc:language>en-US</dc:language>
  <cp:lastModifiedBy>Linda Ruas</cp:lastModifiedBy>
  <dcterms:modified xsi:type="dcterms:W3CDTF">2013-12-08T22:35:36Z</dcterms:modified>
  <cp:revision>15</cp:revision>
  <dc:subject/>
  <dc:title>Fracking</dc:title>
</cp:coreProperties>
</file>